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4529-ABA7-4BDB-BE45-EB0DAA3C43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078-8593-41EE-848F-59AEFD6A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291-879C-4582-B882-0993D707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144-E13A-4088-A0CD-689344A0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6F7-B6C5-48A3-8562-D906E3E1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5486-AC7A-41F1-BC3E-6C905592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3B74-4778-4821-B144-34C70AAF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0B6E-7289-4328-98D6-A5119715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C01B-0ACB-4171-B4FC-9E9E8C63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30F3-B77B-4BF1-B02A-03FA7EC4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B4A7-0386-491D-A8D2-F037DC9F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1A07-C0FC-4288-9981-F005DB7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0DD-76C3-4BEA-9328-695DFBC0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84D1-CF89-4C12-B940-5E8D752D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2CC3-D115-4959-9E09-2220243D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0692-128D-4622-968B-54A5B7BD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6A8B-A617-4EBF-8FF3-FB7388BD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6112-D75B-4644-8B4D-90D75013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792-8229-4AC7-A7C9-5A31DC24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8B0-148A-462D-8069-578959C4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3B5-3801-4978-AAB5-2D60B640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729-9E95-424B-9A9F-AF492332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F45-44A5-4CB9-8BD7-67072C77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C22-657F-4928-8656-5D6E2FBF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FE5-6E19-4EE6-B4BA-0EDA6C1C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5D3D-B223-45CD-919E-FE19C620AB76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74EA-8A93-49CE-ABF7-8B5817D47D0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Doin’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Now that’s a CLASS A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Knowing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That’s Where It’s A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Keep it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Stay in the GRO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Ready, now Stea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You’re on the MOV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10 x 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lease don’t offend</a:t>
            </a: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Much more Fu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SPLIT then AD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WHAM! You’re Don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2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ive me some mo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ll them 12’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,     24,     36,     48,   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6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2,    84,     96,    108,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1x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just split  then add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’s all you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44…There is NO MORE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 Black"/>
              </a:rPr>
              <a:t>W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Arial Black"/>
              </a:rPr>
              <a:t>B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ff"/>
                </a:solidFill>
                <a:latin typeface="Arial Black"/>
              </a:rPr>
              <a:t>WE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Black"/>
              </a:rPr>
              <a:t>SCORED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Oh, Yea…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1 x 1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That’s no Fu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2 x 2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Too Easy to Do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3 x 3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Anyone can See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, 6, 9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very Tim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y No Mo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uble Double that’s no Trou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Double is 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xt Double 1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l them 4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,     8,   12,   1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4,   28,  32,   3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Coming Al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 Black"/>
              </a:rPr>
              <a:t>Ready, Set, Stay in the Race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, 10, 15, 2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30, 35, 40, 4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50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5, 60, 65, 7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7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80, 85, 90, 9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100 </a:t>
            </a:r>
            <a:r>
              <a:rPr b="1" lang="en-US" sz="2000" spc="-1" strike="noStrike">
                <a:solidFill>
                  <a:srgbClr val="66ff66"/>
                </a:solidFill>
                <a:latin typeface="Arial Black"/>
              </a:rPr>
              <a:t>oh Yea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Do it Again, Make it Ter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Ready, Set, Revers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ff"/>
                </a:solidFill>
                <a:latin typeface="Arial Black"/>
              </a:rPr>
              <a:t>WHAM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WE’RE 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asy to fix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Rolling our Six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, 12, 18, 2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0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             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6, 42, 48, 5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6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Keep in Ti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49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Let’s Roll Them Fine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7, 14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21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8, 35,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42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49, 56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63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Wrap it up…70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8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Fell on the Floo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 8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64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Roll it Now, Roll some Mo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8,  16, 24, 3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4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 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48, 56, 64, 7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8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This one’s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 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Rollin, Rollin, get the water </a:t>
            </a: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Boilin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90</a:t>
            </a: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72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6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5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45</a:t>
            </a: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36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2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18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0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5:42:49Z</dcterms:created>
  <dc:creator>dtaylor</dc:creator>
  <dc:description/>
  <dc:language>en-US</dc:language>
  <cp:lastModifiedBy>RomaK</cp:lastModifiedBy>
  <dcterms:modified xsi:type="dcterms:W3CDTF">2015-09-04T07:42:59Z</dcterms:modified>
  <cp:revision>15</cp:revision>
  <dc:subject/>
  <dc:title>math fact review rap</dc:title>
</cp:coreProperties>
</file>